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4.jpeg" ContentType="image/jpeg"/>
  <Override PartName="/ppt/media/image13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46F5-D18E-4A74-9B92-321E39C33B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FF6-18E5-491A-B629-E895854F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D79-E250-45E9-A3AD-46D0B4C1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C6D-AA29-4F7F-960F-D1EA7754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EDE-BE55-4808-AF34-65A570CA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976-D093-464C-999D-746B1F85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A57-A527-40A5-88F3-3A9F6E82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8EF-47A8-44AC-88D3-26A45177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9E6-731A-4695-931B-CD6AB6C7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1E4-849D-4141-BC34-26A88A93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3F5-2EE2-40A4-9DB2-B861A43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A47-44E2-4D31-8230-DC65CAB3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C9F-4C79-4A38-899B-59E759C1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C25C-E515-4ABC-A916-E37D8560FF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2060640"/>
            <a:ext cx="770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4.2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直线、射线、线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2362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85960" y="1828800"/>
            <a:ext cx="2771640" cy="533520"/>
            <a:chOff x="885960" y="1828800"/>
            <a:chExt cx="2771640" cy="533520"/>
          </a:xfrm>
        </p:grpSpPr>
        <p:sp>
          <p:nvSpPr>
            <p:cNvPr id="114" name=""/>
            <p:cNvSpPr/>
            <p:nvPr/>
          </p:nvSpPr>
          <p:spPr>
            <a:xfrm flipH="1" flipV="1">
              <a:off x="3276000" y="22766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143000" y="2286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5960" y="1828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1828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886200" y="19810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表示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① 用两个大写英文字母表示，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直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或直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BA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430524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38098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表示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② 用一个小写英文字母表示 ，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直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  <a:ea typeface="隶书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68600" y="3808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们可以用下列方式表示直线、射线、线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1447920"/>
            <a:ext cx="3460680" cy="609120"/>
            <a:chOff x="685800" y="1447920"/>
            <a:chExt cx="3460680" cy="609120"/>
          </a:xfrm>
        </p:grpSpPr>
        <p:sp>
          <p:nvSpPr>
            <p:cNvPr id="124" name=""/>
            <p:cNvSpPr/>
            <p:nvPr/>
          </p:nvSpPr>
          <p:spPr>
            <a:xfrm>
              <a:off x="1022400" y="20131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946080" y="1969200"/>
              <a:ext cx="76320" cy="87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1447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 flipV="1">
            <a:off x="2361600" y="1980360"/>
            <a:ext cx="7596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13716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685800"/>
            <a:ext cx="426708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表示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： ① 用两个大写字母表示，必须端点写在前，射线上另一个字母写在后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射线 </a:t>
            </a:r>
            <a:r>
              <a:rPr b="1" lang="zh-CN" sz="2800" spc="-1" strike="noStrike">
                <a:solidFill>
                  <a:srgbClr val="6600ff"/>
                </a:solidFill>
                <a:latin typeface="Tahoma"/>
                <a:ea typeface="隶书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。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说明：①同一条射线有不同的表示；②端点相同的射线不一定是同一条射线，端点不同的射线一定不是同一条射线；③两条射线是同一条射线，必须具备两个条件：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端点相同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延伸的方向相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9480" y="4800600"/>
            <a:ext cx="3460680" cy="641160"/>
            <a:chOff x="609480" y="4800600"/>
            <a:chExt cx="3460680" cy="641160"/>
          </a:xfrm>
        </p:grpSpPr>
        <p:sp>
          <p:nvSpPr>
            <p:cNvPr id="131" name=""/>
            <p:cNvSpPr/>
            <p:nvPr/>
          </p:nvSpPr>
          <p:spPr>
            <a:xfrm>
              <a:off x="946080" y="53658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869760" y="5321880"/>
              <a:ext cx="76320" cy="87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80" y="4800600"/>
              <a:ext cx="60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95480" y="4572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952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一个小写字母表示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射线 </a:t>
            </a: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990360" y="1752480"/>
            <a:ext cx="2210040" cy="85320"/>
            <a:chOff x="990360" y="1752480"/>
            <a:chExt cx="2210040" cy="85320"/>
          </a:xfrm>
        </p:grpSpPr>
        <p:sp>
          <p:nvSpPr>
            <p:cNvPr id="137" name=""/>
            <p:cNvSpPr/>
            <p:nvPr/>
          </p:nvSpPr>
          <p:spPr>
            <a:xfrm>
              <a:off x="1066680" y="1800000"/>
              <a:ext cx="20574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124080" y="17524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90000" y="176148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838080" y="1066680"/>
            <a:ext cx="2714760" cy="520560"/>
            <a:chOff x="838080" y="1066680"/>
            <a:chExt cx="2714760" cy="520560"/>
          </a:xfrm>
        </p:grpSpPr>
        <p:sp>
          <p:nvSpPr>
            <p:cNvPr id="141" name=""/>
            <p:cNvSpPr/>
            <p:nvPr/>
          </p:nvSpPr>
          <p:spPr>
            <a:xfrm>
              <a:off x="838080" y="1066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43360" y="1066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86200" y="10666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表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用两个端点的大写字母表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线段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AB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或线段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360" y="3962520"/>
            <a:ext cx="2210040" cy="85320"/>
            <a:chOff x="990360" y="3962520"/>
            <a:chExt cx="2210040" cy="85320"/>
          </a:xfrm>
        </p:grpSpPr>
        <p:sp>
          <p:nvSpPr>
            <p:cNvPr id="145" name=""/>
            <p:cNvSpPr/>
            <p:nvPr/>
          </p:nvSpPr>
          <p:spPr>
            <a:xfrm>
              <a:off x="1066680" y="4010040"/>
              <a:ext cx="20574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3124080" y="39625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990000" y="39715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752480" y="33526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31240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表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用一个小写字母表示 ，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线段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95280" y="11732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20415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指出直线、射线、线段三者的区别与联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895480"/>
          <a:ext cx="7696080" cy="2590920"/>
        </p:xfrm>
        <a:graphic>
          <a:graphicData uri="http://schemas.openxmlformats.org/drawingml/2006/table">
            <a:tbl>
              <a:tblPr/>
              <a:tblGrid>
                <a:gridCol w="1235160"/>
                <a:gridCol w="1431720"/>
                <a:gridCol w="2210040"/>
                <a:gridCol w="1295280"/>
                <a:gridCol w="15238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直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射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线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835280" y="2997360"/>
            <a:ext cx="16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端点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29973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延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08720" y="2924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度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4343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4149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向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一个方向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无限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4343400"/>
            <a:ext cx="16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不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度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8000" y="3716280"/>
            <a:ext cx="14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无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端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350028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向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两个方向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限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35733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不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度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4941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50133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不向任何方向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延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4941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度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51055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44956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1000" y="5105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5670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2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想一想、填一填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把线段向一个方向无限延伸可以得到——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把线段向两个方向无限延伸可以得到———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——和——都是——的一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33720" y="9144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看图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8769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7400" y="41911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8320" y="4038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06120" y="2209680"/>
            <a:ext cx="25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直线 </a:t>
            </a:r>
            <a:r>
              <a:rPr b="0" lang="zh-CN" sz="3200" spc="-1" strike="noStrike">
                <a:solidFill>
                  <a:srgbClr val="000000"/>
                </a:solidFill>
                <a:latin typeface="Monotype Corsiva"/>
              </a:rPr>
              <a:t>l  </a:t>
            </a:r>
            <a:r>
              <a:rPr b="0" lang="zh-CN" sz="3200" spc="-1" strike="noStrike">
                <a:solidFill>
                  <a:srgbClr val="000000"/>
                </a:solidFill>
                <a:latin typeface="Monotype Corsiva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0" dur="1" fill="hold"/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0" y="9144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看图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769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7400" y="41911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6040" y="327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1040" y="1981080"/>
            <a:ext cx="25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直线 </a:t>
            </a:r>
            <a:r>
              <a:rPr b="0" lang="zh-CN" sz="3200" spc="-1" strike="noStrike">
                <a:solidFill>
                  <a:srgbClr val="000000"/>
                </a:solidFill>
                <a:latin typeface="Monotype Corsiva"/>
              </a:rPr>
              <a:t>l  </a:t>
            </a:r>
            <a:r>
              <a:rPr b="0" lang="zh-CN" sz="3200" spc="-1" strike="noStrike">
                <a:solidFill>
                  <a:srgbClr val="000000"/>
                </a:solidFill>
                <a:latin typeface="Monotype Corsiva"/>
              </a:rPr>
              <a:t>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0" y="838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看图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49528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3886200"/>
            <a:ext cx="312444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4876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4876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5943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3809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48920" y="205740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线段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相交于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05120" y="1523880"/>
            <a:ext cx="66294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直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过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按下列语句画出图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886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3886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19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486900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4648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38862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38862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3886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95280" y="1295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经过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三条线段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90360" y="3962520"/>
            <a:ext cx="2210040" cy="85320"/>
            <a:chOff x="990360" y="3962520"/>
            <a:chExt cx="2210040" cy="85320"/>
          </a:xfrm>
        </p:grpSpPr>
        <p:sp>
          <p:nvSpPr>
            <p:cNvPr id="212" name=""/>
            <p:cNvSpPr/>
            <p:nvPr/>
          </p:nvSpPr>
          <p:spPr>
            <a:xfrm>
              <a:off x="1066680" y="4010040"/>
              <a:ext cx="20574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124080" y="39625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990000" y="39715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752480" y="33526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4876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3886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3200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495288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010280" y="41911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4724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4876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04960" y="2971800"/>
            <a:ext cx="2210040" cy="85320"/>
            <a:chOff x="3504960" y="2971800"/>
            <a:chExt cx="2210040" cy="85320"/>
          </a:xfrm>
        </p:grpSpPr>
        <p:sp>
          <p:nvSpPr>
            <p:cNvPr id="227" name=""/>
            <p:cNvSpPr/>
            <p:nvPr/>
          </p:nvSpPr>
          <p:spPr>
            <a:xfrm>
              <a:off x="3581280" y="3019320"/>
              <a:ext cx="20574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6386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3504600" y="298080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952880" y="3581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5146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343400" y="2666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09480" y="3808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按下列语句画出图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生活情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581640" cy="2482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461960" cy="325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8320" y="1574640"/>
            <a:ext cx="366876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生活实际，想一想，比较线段长短的方法都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会找出线段的中点，三等分点，四等分点…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阅读课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选一选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图所示，下列说法正确的是（    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直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同一直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同一射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同一射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同一射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32360" y="249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500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59280" y="34290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34290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93080" y="34290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7800" y="35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4980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357336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4149720"/>
            <a:ext cx="352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如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过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画几条直线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过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画几条直线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过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画几条直线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84720" y="4508640"/>
            <a:ext cx="302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（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）无数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）一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479736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6000" y="4869000"/>
            <a:ext cx="75960" cy="759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32720" y="4653000"/>
            <a:ext cx="71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12000" y="4869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17080" y="4941720"/>
            <a:ext cx="75960" cy="7632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12000" y="4508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96360" y="573408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51640" y="5734080"/>
            <a:ext cx="76320" cy="7632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77080" y="551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534840" y="1371600"/>
            <a:ext cx="13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下列说法正确的是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两点确定两条直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三点确定一条直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过一点只能作一条直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过一点可以作无数条直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106668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 下列说法错误的是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直线  </a:t>
            </a:r>
            <a:r>
              <a:rPr b="0" lang="zh-CN" sz="2400" spc="-1" strike="noStrike">
                <a:solidFill>
                  <a:srgbClr val="000000"/>
                </a:solidFill>
                <a:latin typeface="Monotype Corsiva"/>
              </a:rPr>
              <a:t>l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直线  </a:t>
            </a:r>
            <a:r>
              <a:rPr b="0" lang="zh-CN" sz="2400" spc="-1" strike="noStrike">
                <a:solidFill>
                  <a:srgbClr val="000000"/>
                </a:solidFill>
                <a:latin typeface="Monotype Corsiva"/>
              </a:rPr>
              <a:t>l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经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365760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495680" y="3885840"/>
            <a:ext cx="36576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4724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4419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1992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6019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9072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，射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同一条射线，则符合题意的图为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85800" y="2437920"/>
            <a:ext cx="12193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32767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181480" y="2362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858000" y="25905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3200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95280" y="3505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3048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2720" y="3124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819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048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91520" y="2819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7240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15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48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724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19320" y="914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所示的直线、射线、线段能相交的是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09480" y="243792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32767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181480" y="2362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858000" y="25905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102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3200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8800" y="3733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1981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3048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2819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3048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91520" y="2819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240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718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05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008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81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743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2209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724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4674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2057400"/>
            <a:ext cx="14475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19810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4300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219320" y="76212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2b2b2"/>
                </a:solidFill>
                <a:latin typeface="Tahoma"/>
                <a:ea typeface="华文新魏"/>
              </a:rPr>
              <a:t>讨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1676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排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一人固定则可以排几个队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2819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两人固定则又可以排几个队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3352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三个人、…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590920" y="4267080"/>
            <a:ext cx="711000" cy="1219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4191120" y="5410080"/>
            <a:ext cx="71100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257800" y="4038480"/>
            <a:ext cx="711360" cy="12193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 flipV="1">
            <a:off x="914400" y="4952520"/>
            <a:ext cx="746748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4495680"/>
            <a:ext cx="3504960" cy="2362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648320" y="2895120"/>
            <a:ext cx="3276360" cy="3962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066680" y="1676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排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3352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三个人、…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590920" y="4267080"/>
            <a:ext cx="71100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038480" y="4114800"/>
            <a:ext cx="711360" cy="12193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257800" y="4038480"/>
            <a:ext cx="711360" cy="12193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 flipV="1">
            <a:off x="914400" y="4952520"/>
            <a:ext cx="746748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44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1905120"/>
            <a:ext cx="4343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如图，已知三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画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画射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画线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343400"/>
            <a:ext cx="76320" cy="7632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3124080"/>
            <a:ext cx="76320" cy="7632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2362320"/>
            <a:ext cx="76320" cy="759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244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7480" y="2590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72200" y="1828800"/>
            <a:ext cx="2971800" cy="327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334120" y="2438280"/>
            <a:ext cx="1295280" cy="3733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943600" y="3200400"/>
            <a:ext cx="137160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523880" y="1676520"/>
            <a:ext cx="6248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经过两点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一条直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只有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条直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直线、射线、线段三者的区别与联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不同几何语言（文字语言、符号语言、图形语言）的相互转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7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760" y="533520"/>
            <a:ext cx="4282920" cy="284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5029200" cy="3047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08440" y="533520"/>
            <a:ext cx="428328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133720" y="220968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谢谢！再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41400"/>
            <a:ext cx="5578200" cy="331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36640" y="3429000"/>
            <a:ext cx="55785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4120" y="4800600"/>
            <a:ext cx="33526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81960" y="43434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3352680"/>
            <a:ext cx="0" cy="31244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95880" y="3429000"/>
            <a:ext cx="1371600" cy="29718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790960" y="3581280"/>
            <a:ext cx="1904760" cy="26672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508720" y="3789360"/>
            <a:ext cx="2590560" cy="20574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181120" y="4191120"/>
            <a:ext cx="3124440" cy="12952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409720" y="3962520"/>
            <a:ext cx="3124440" cy="167616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715000" y="3581280"/>
            <a:ext cx="2286000" cy="22860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24480" y="3276360"/>
            <a:ext cx="1067040" cy="29718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4520" y="45720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70080" y="5410080"/>
            <a:ext cx="80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4419720"/>
            <a:ext cx="3352680" cy="190476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1268280"/>
            <a:ext cx="61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过一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画几条直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过两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画几条直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476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通常用大写英文字母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04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动手试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经过两点有一条直线，并且只有一条直线，可以用来说明生活中的哪些现象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6720" y="1143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157032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54560" y="3276720"/>
            <a:ext cx="10699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92320" y="4114800"/>
            <a:ext cx="185580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28600" y="4114800"/>
            <a:ext cx="186048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733840" y="3962520"/>
            <a:ext cx="142704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505320" y="3733920"/>
            <a:ext cx="1355760" cy="1447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343400" y="3505320"/>
            <a:ext cx="121284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072120" y="3124080"/>
            <a:ext cx="92700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6629400" y="3048120"/>
            <a:ext cx="78408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7010280" y="3048120"/>
            <a:ext cx="64152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7512120" y="2819520"/>
            <a:ext cx="6411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7888320" y="2743200"/>
            <a:ext cx="56988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8229600" y="2743200"/>
            <a:ext cx="42696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8458200" y="2743200"/>
            <a:ext cx="355680" cy="380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8686800" y="2743200"/>
            <a:ext cx="28404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V="1">
            <a:off x="380880" y="2895120"/>
            <a:ext cx="8763120" cy="3962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42960" y="60948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两点确定一条直线的应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523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树时，只要定出两个树坑的位置就能确定同一行的树坑所在的直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ff"/>
                                </p:to>
                              </p:animCl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295280" y="3886200"/>
          <a:ext cx="709164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709164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71600" y="4114800"/>
            <a:ext cx="69343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95280" y="4114800"/>
          <a:ext cx="91440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057400" y="4114800"/>
          <a:ext cx="91440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819520" y="4114800"/>
          <a:ext cx="914400" cy="4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581280" y="4114800"/>
          <a:ext cx="914400" cy="4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343400" y="4114800"/>
          <a:ext cx="914400" cy="42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105520" y="4114800"/>
          <a:ext cx="914400" cy="42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05520" y="4114800"/>
                    <a:ext cx="914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971640" y="1125360"/>
            <a:ext cx="734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筑工人在砌墙时会在墙的两头分别固定两枚钉子，然后在钉子之间拉一条绳子，确定出一条直的参照线，这样砌出的墙就是直的。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827440" cy="4171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少年智力开发报·数学专页</dc:creator>
  <dc:description>数学专页集十年辅导教学之经验、八年教育软件之执着、六年教学资源网站之专注，值此十周年之际，向广大师生隆重推出新一代备课平台----《数学专页备课王》！
《数学专页备课王》主要服务于中学教师的备课、课堂训练、课外辅导及日常管理工作；中学生的自主预习、自主练习、自主评测。
《数学专页备课王》内容丰富，资源全面，主要包括 随堂教案、随堂课件、随堂试卷、 随堂学案、数万道同步试题库、1.6万道2005-2010全国各地中考真题库、 近700套2001-2010年中考真题试卷，自1950年以来所有的高考真题试卷大全、常用工具推荐及数学专页相关介绍。
《数学专页备课王》容量大、资源全、功能强！教师一旦拥有她，必将成为教学生涯中的有力助手！</dc:description>
  <cp:keywords>备课王 数学专页</cp:keywords>
  <dc:language>en-US</dc:language>
  <cp:lastModifiedBy>微软用户</cp:lastModifiedBy>
  <dcterms:modified xsi:type="dcterms:W3CDTF">2014-06-30T01:16:24Z</dcterms:modified>
  <cp:revision>6</cp:revision>
  <dc:subject>数学专页备课王</dc:subject>
  <dc:title>数学专页备课王资源文件</dc:title>
</cp:coreProperties>
</file>